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C1B-BAC7-4E13-9449-8997F70A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AF0-B67E-41EA-B7F4-423E2ED6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FEA-7A4A-4AA8-A107-74D9BECA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C8F-CE7B-4928-B25B-39F4C523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DB4A-2644-4214-B848-B828D1CD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CBFF-FA48-4A62-9A42-15EAF819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98FC-7FE4-48F6-BCF5-33D120E9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DBAF-C40E-415C-98DB-FA932822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6F21-6904-4F4E-9012-CAE53812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8FCD-04E0-40C5-A149-AC7BEFBD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1F6D-0D29-4BB2-A55F-C8224F6D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3A6-939D-433C-B7B4-168F423B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12EE-DDE5-45A3-80D2-5D43DC6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3AB0-B761-463E-95B9-EDFDA48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2194-EF78-41E7-A170-9C62B82E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A490-A6FC-413B-8519-00D6D8FD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3E60-39E7-473D-BEF0-CD39E401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E280-413B-4A0B-AF05-28278357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2AEA-3EF7-45C7-90BE-2102FE91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398B-9EF7-4537-9BEE-1717F90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3A93-D5D3-4BCC-826C-0EA23D9F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3E14-60BD-4DBE-9C8C-E828793B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3DA-18A2-4F90-B269-258EFEF3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A786-014A-4D10-BF6C-FC49ACFF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3E763-4EB1-4426-9CD1-EB054D2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16B0-E6EE-47C0-8971-3F07AB6B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6C682-C4EE-4B75-889C-50F2995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E541-9BAF-4C69-984B-17697FCC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C9B3-4075-471E-BACF-FF4C5114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5B58-D400-4FCB-AAD9-1F92B977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72ED0-49FE-4A56-BF6D-956B9EF3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0F4B1-5CD4-488B-9734-EAB42E3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71837-9A75-4F12-AFAE-651555BB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1F0-A1C8-4F94-B522-27ADF261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5F68E-6832-4147-90D2-6518E2B0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D30C6-6C50-4EF2-8F36-A3006BF0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F62E7-298C-48D8-99C5-2F864540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309F8-62D3-487C-866A-819B8D7D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979B5-BB33-4368-A2FE-DAB260E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42A1D-CF4D-4526-8444-8CF70F44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2E082-6F49-4507-BC3D-6CB70302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C4B69-2A30-4911-85F1-25773813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F33D1-0726-41D8-90B8-53B06262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F1EFC-E27A-4858-9DCD-09A34046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E7C-245F-4775-BB63-D6D845DC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29808-1E44-4C0A-92E0-376090EB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A02F-19F2-4888-8F1B-C4A5AA6E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03BF-1E9E-4085-ADE7-19B114A6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FE74F-6E53-4E3A-A668-F96538C9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45DEB-0BCA-428B-9D12-3D393F87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5775A-C58E-41AA-BE72-FA701B2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D6357-1F1E-4E86-811C-7155D8EA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8F34-A7D7-4EDE-B73B-92EED835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8F660-08D6-4153-B3CA-FC38953C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429ED-96FE-408F-A589-96BA077A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E6C-844D-44F5-AB4D-9605962C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AFA76-FA14-413C-A97A-EEA4497B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D74-C722-46AB-80B0-F4A7C5F7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554-BBDB-479C-AAF5-8E1F4F32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211-263C-4A3C-AEC2-BA792A2E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4B3A-C116-466C-922B-1F653037D254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F7F5-EB92-400B-88FB-0033921B6817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Picture 2" descr="C:\Documents and Settings\user7\Local Settings\Application Data\Microsoft\Messenger\jaimee.yjk@hotmail.com\Sharing Folders\usangmee@msn.com\회사웹\외환선물 CI\외환선물 (국영문 조합 가로).bmp"/>
          <p:cNvPicPr/>
          <p:nvPr/>
        </p:nvPicPr>
        <p:blipFill>
          <a:blip r:embed="rId2"/>
          <a:stretch/>
        </p:blipFill>
        <p:spPr>
          <a:xfrm>
            <a:off x="7643880" y="6438960"/>
            <a:ext cx="1454040" cy="419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21D5-8C28-431B-89E5-0E50D81E7A32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746-2E76-495E-BF48-53D7547DBE8F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7169-8DC3-4043-9055-CC25118C2942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rebuchet MS"/>
              </a:rPr>
              <a:t>서브프라임문제 파급에 따른 금융환경 변화와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009</a:t>
            </a:r>
            <a:r>
              <a:rPr b="0" lang="ko-KR" sz="3600" spc="-1" strike="noStrike">
                <a:solidFill>
                  <a:srgbClr val="ffffff"/>
                </a:solidFill>
                <a:latin typeface="Trebuchet MS"/>
              </a:rPr>
              <a:t>년 시장 전망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이 흥 재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24456"/>
                </a:solidFill>
                <a:latin typeface="Georgia"/>
              </a:rPr>
              <a:t>외환선물㈜ 국제영업본부장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미국 금융 감독당국의 </a:t>
            </a:r>
            <a:br>
              <a:rPr sz="3600"/>
            </a:b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향후 규제 개혁 방향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신현송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레버리지 전체에 대해 규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`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바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I`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는 위험 자산에 대한 자기자본 규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험 여부를 떠나 전체 레버리지를 따져야 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리먼이나 베어스턴스의 경우 문제의 발생지는 안전하다고 평가받는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위험자산으로 분류되지 않는 단기부채 →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레버리지가 급속도로 확대돼도 금융감독의 제재를 전혀 받지 않았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현재 미국 연방예금보험공사는 시중은행에 대해서만 레버리지 전체에 대해 규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를 증권사나 다른 금융 부문으로 확대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실시해야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미국 금융 감독당국의 </a:t>
            </a:r>
            <a:br>
              <a:rPr sz="3600"/>
            </a:b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향후 규제 개혁 방향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신현송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유동성 규제가 필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`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바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I`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는 자산의 부실 위험에 대해서만 집착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부채의 안정성에 대해서는 등한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리먼과 베어스턴스 모두 부채 쪽의 문제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서브프라임 사태로 금융기관들의 부채 쪽에서 문제가 생기자 투자자들이 위험을 줄이기 위해 경쟁적으로 자금을 인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→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자산의 부실이라기 보다는 일종의 뱅크런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베어스턴스의 유동성은 사흘만에 완전히 동났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결론적으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`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바젤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I`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는 죽었다고 봐야 함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를 대체할 만한 새로운 금융감독제도가 나올 것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3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미국 금융 감독당국의 </a:t>
            </a:r>
            <a:br>
              <a:rPr sz="3600"/>
            </a:b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향후 규제 개혁 방향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신현송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향후 금융감독체제를 중앙은행 위주로 가져가야 함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번 금융위기 이전까지 연준은 상업은행만 감독하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증권사 감독은 증권거래위원회가 담당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그러나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EC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는 증권사들을 감독할만한 전문지식도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전문가도 없었음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 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부분 법학 전공 출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 →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증권사 부문에서 문제가 발생하자 손을 쓸 수가 없었음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주요국별 금리정책 전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42960" y="1785960"/>
          <a:ext cx="7858080" cy="4500720"/>
        </p:xfrm>
        <a:graphic>
          <a:graphicData uri="http://schemas.openxmlformats.org/drawingml/2006/table">
            <a:tbl>
              <a:tblPr/>
              <a:tblGrid>
                <a:gridCol w="928800"/>
                <a:gridCol w="6929280"/>
              </a:tblGrid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미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인플레이션 진정 후 경기침체 심각성 부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연방준비제도이사회 추가 금리인하 가능성 높아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유럽연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2009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년 유럽의 경기침체와 인플레이션 위험 감소로 유럽 중앙은행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2.00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추가 금리인하 전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영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영란은행의 과감한 금리인하 기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일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탄력적인 모습 유지 중인 금융시장으로 일본 중앙은행의 정책적인 금리인하는 없을 것으로 예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호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세계경기둔화 전망에 따른 원자재 수요 감소로 기준금리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4%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까지 인하할 것으로 전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캐나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경기둔화전망과 안정된 물가상승 전망으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2009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분기 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.0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금리인하 단행할 것으로 전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5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중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외화보유고 기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3%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내외 로 내리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2009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년 중반기 까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번의 금리인하 단행할 것으로 전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흥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신흥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-G3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간 연계성이 확대 및 깊어짐에 따라 시장 일탈 현상과 불확실성 높아질 것으로 전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국제 외환시장 전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704960" y="2428920"/>
            <a:ext cx="5724720" cy="3190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1714680" y="5627160"/>
            <a:ext cx="16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맑은 고딕"/>
              </a:rPr>
              <a:t>Source: Bloomber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1714680" y="19882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BOT VIX Index vs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달러 인덱스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aily Char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미 달러화 대비 주요국 환율 전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000080" y="2071800"/>
          <a:ext cx="7215120" cy="3500280"/>
        </p:xfrm>
        <a:graphic>
          <a:graphicData uri="http://schemas.openxmlformats.org/drawingml/2006/table">
            <a:tbl>
              <a:tblPr/>
              <a:tblGrid>
                <a:gridCol w="1443240"/>
                <a:gridCol w="1442880"/>
                <a:gridCol w="1442880"/>
                <a:gridCol w="1443240"/>
                <a:gridCol w="1442880"/>
              </a:tblGrid>
              <a:tr h="438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2009 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분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2009 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분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2009 3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분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2009 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분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유럽연합 유로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3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영국 파운드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일본 엔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3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호주 달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0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뉴질랜드 달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3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중국 위안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6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6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6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6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Georgia"/>
                          <a:ea typeface="맑은 고딕"/>
                        </a:rPr>
                        <a:t>한국 원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굴림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3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1.</a:t>
            </a:r>
            <a:r>
              <a:rPr b="0" lang="ko-KR" sz="3200" spc="-1" strike="noStrike">
                <a:solidFill>
                  <a:srgbClr val="424456"/>
                </a:solidFill>
                <a:latin typeface="Trebuchet MS"/>
              </a:rPr>
              <a:t>금융위기 → 실물경제로 파급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= </a:t>
            </a:r>
            <a:r>
              <a:rPr b="0" lang="ko-KR" sz="3200" spc="-1" strike="noStrike">
                <a:solidFill>
                  <a:srgbClr val="424456"/>
                </a:solidFill>
                <a:latin typeface="Trebuchet MS"/>
              </a:rPr>
              <a:t>수요 감소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5" name="Diagram 3" descr=""/>
          <p:cNvPicPr/>
          <p:nvPr/>
        </p:nvPicPr>
        <p:blipFill>
          <a:blip r:embed="rId1"/>
          <a:stretch/>
        </p:blipFill>
        <p:spPr>
          <a:xfrm>
            <a:off x="811080" y="1878120"/>
            <a:ext cx="7442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2.</a:t>
            </a:r>
            <a:r>
              <a:rPr b="0" lang="ko-KR" sz="3200" spc="-1" strike="noStrike">
                <a:solidFill>
                  <a:srgbClr val="424456"/>
                </a:solidFill>
                <a:latin typeface="Trebuchet MS"/>
              </a:rPr>
              <a:t>상품시장과 관련한 </a:t>
            </a:r>
            <a:br>
              <a:rPr sz="3200"/>
            </a:br>
            <a:r>
              <a:rPr b="0" lang="ko-KR" sz="3200" spc="-1" strike="noStrike">
                <a:solidFill>
                  <a:srgbClr val="424456"/>
                </a:solidFill>
                <a:latin typeface="Trebuchet MS"/>
              </a:rPr>
              <a:t>국제투기자금 움직임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7" name="Diagram 3" descr=""/>
          <p:cNvPicPr/>
          <p:nvPr/>
        </p:nvPicPr>
        <p:blipFill>
          <a:blip r:embed="rId1"/>
          <a:stretch/>
        </p:blipFill>
        <p:spPr>
          <a:xfrm>
            <a:off x="847800" y="1779480"/>
            <a:ext cx="73753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서브프라임 모기지 사태 파급경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기지 회사 파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유동성 압박 경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071720" y="2857680"/>
            <a:ext cx="6643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3. </a:t>
            </a:r>
            <a:r>
              <a:rPr b="0" lang="ko-KR" sz="3600" spc="-1" strike="noStrike">
                <a:solidFill>
                  <a:srgbClr val="424456"/>
                </a:solidFill>
                <a:latin typeface="Trebuchet MS"/>
              </a:rPr>
              <a:t>세계적인 정책공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세계적인 금리인하 공조와 대규모 구제금융에 따른 결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풍부해진 시중 유동성은 반드시 실물자산의 투자 수요를 일으킬 수 밖에 없다고 판단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품목별 전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비철금속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전기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톤당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,0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대 중반 수준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생산업체들의 손익분기점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6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월전에 거래되는 가격인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8,00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달러 대 시점부터 지금까지 심심치 않게 감산 뉴스 찾아볼 수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품목별 전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원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6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개월만에 원유가격 고점대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/3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수준에서 거래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008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년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월 말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PEC 150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만 배럴 감산 결정 후 추가 감산 준비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품목별 전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대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브라질 같은 곳에서는 시장가격이 한계생산비용을 밑돌고 있는 상황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올해 경작면적은 이미 정해져 있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이미 농산물 가격이 폭락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산출은 저조할 것으로 예상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438086"/>
                </a:solidFill>
                <a:latin typeface="Georgia"/>
              </a:rPr>
              <a:t>뚜렷한 하방경직성에 대한 예상이 결정적인 상황에서 곡창지역의 기상이변이 이끌어낼 가격폭등이 더 가능성 있음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결론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– </a:t>
            </a: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점진적 강세 전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금등과 급락을 반복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09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의 고점과 저점을 감안할 때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자 형태의 급격한 실물 및 투자 수요의 회복 기대 어려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향후 예상되는 달러화의 장기적 약세추세 전환과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저조한 수요예상에도 불구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가시적인 생산증가 움직임 없어 점진적인 강세 유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서브프라임 모기지 사태 파급경로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DO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의 부실화와 헤지펀드의 위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785880" y="2752560"/>
            <a:ext cx="7572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구조적 위험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78" name="Rounded Rectangle 5"/>
          <p:cNvGrpSpPr/>
          <p:nvPr/>
        </p:nvGrpSpPr>
        <p:grpSpPr>
          <a:xfrm>
            <a:off x="378000" y="2530440"/>
            <a:ext cx="1206360" cy="1273320"/>
            <a:chOff x="378000" y="2530440"/>
            <a:chExt cx="1206360" cy="1273320"/>
          </a:xfrm>
        </p:grpSpPr>
        <p:pic>
          <p:nvPicPr>
            <p:cNvPr id="279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378000" y="2530440"/>
              <a:ext cx="12063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01480" y="2624040"/>
              <a:ext cx="9669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차입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1" name="Rounded Rectangle 6"/>
          <p:cNvGrpSpPr/>
          <p:nvPr/>
        </p:nvGrpSpPr>
        <p:grpSpPr>
          <a:xfrm>
            <a:off x="2097000" y="2530440"/>
            <a:ext cx="1627200" cy="1273320"/>
            <a:chOff x="2097000" y="2530440"/>
            <a:chExt cx="1627200" cy="1273320"/>
          </a:xfrm>
        </p:grpSpPr>
        <p:pic>
          <p:nvPicPr>
            <p:cNvPr id="2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097000" y="2530440"/>
              <a:ext cx="16272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219400" y="2627280"/>
              <a:ext cx="138888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모기지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대출기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4" name="Rounded Rectangle 7"/>
          <p:cNvGrpSpPr/>
          <p:nvPr/>
        </p:nvGrpSpPr>
        <p:grpSpPr>
          <a:xfrm>
            <a:off x="4456080" y="2530440"/>
            <a:ext cx="1841400" cy="1273320"/>
            <a:chOff x="4456080" y="2530440"/>
            <a:chExt cx="1841400" cy="1273320"/>
          </a:xfrm>
        </p:grpSpPr>
        <p:pic>
          <p:nvPicPr>
            <p:cNvPr id="2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4456080" y="2530440"/>
              <a:ext cx="18414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576680" y="2627280"/>
              <a:ext cx="16034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자산유동화 회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7" name="Rounded Rectangle 8"/>
          <p:cNvGrpSpPr/>
          <p:nvPr/>
        </p:nvGrpSpPr>
        <p:grpSpPr>
          <a:xfrm>
            <a:off x="6808680" y="2530440"/>
            <a:ext cx="1914480" cy="1273320"/>
            <a:chOff x="6808680" y="2530440"/>
            <a:chExt cx="1914480" cy="1273320"/>
          </a:xfrm>
        </p:grpSpPr>
        <p:pic>
          <p:nvPicPr>
            <p:cNvPr id="288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6808680" y="2530440"/>
              <a:ext cx="191448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934320" y="2627280"/>
              <a:ext cx="16747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인수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투자은행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중개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90" name="Rounded Rectangle 9"/>
          <p:cNvGrpSpPr/>
          <p:nvPr/>
        </p:nvGrpSpPr>
        <p:grpSpPr>
          <a:xfrm>
            <a:off x="6151680" y="4456080"/>
            <a:ext cx="2309760" cy="1279440"/>
            <a:chOff x="6151680" y="4456080"/>
            <a:chExt cx="2309760" cy="1279440"/>
          </a:xfrm>
        </p:grpSpPr>
        <p:pic>
          <p:nvPicPr>
            <p:cNvPr id="291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6151680" y="4456080"/>
              <a:ext cx="23097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270480" y="4556160"/>
              <a:ext cx="2032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투자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(</a:t>
              </a: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헤지펀드</a:t>
              </a:r>
              <a:r>
                <a:rPr b="0" lang="en-US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, </a:t>
              </a: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보험</a:t>
              </a:r>
              <a:r>
                <a:rPr b="0" lang="en-US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, </a:t>
              </a:r>
              <a:r>
                <a:rPr b="0" lang="ko-KR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은행 등</a:t>
              </a:r>
              <a:r>
                <a:rPr b="0" lang="en-US" sz="2000" spc="-1" strike="noStrike">
                  <a:solidFill>
                    <a:srgbClr val="ffffff"/>
                  </a:solidFill>
                  <a:latin typeface="Georgia"/>
                  <a:ea typeface="맑은 고딕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3" name="TextBox 10"/>
          <p:cNvSpPr/>
          <p:nvPr/>
        </p:nvSpPr>
        <p:spPr>
          <a:xfrm>
            <a:off x="1576080" y="2448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8588a2"/>
                </a:solidFill>
                <a:latin typeface="Georgia"/>
                <a:ea typeface="맑은 고딕"/>
              </a:rPr>
              <a:t>저당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1606320" y="3376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8588a2"/>
                </a:solidFill>
                <a:latin typeface="Georgia"/>
                <a:ea typeface="맑은 고딕"/>
              </a:rPr>
              <a:t>현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TextBox 12"/>
          <p:cNvSpPr/>
          <p:nvPr/>
        </p:nvSpPr>
        <p:spPr>
          <a:xfrm>
            <a:off x="6392520" y="3429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8588a2"/>
                </a:solidFill>
                <a:latin typeface="Georgia"/>
                <a:ea typeface="맑은 고딕"/>
              </a:rPr>
              <a:t>현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6847920" y="38768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8588a2"/>
                </a:solidFill>
                <a:latin typeface="Georgia"/>
                <a:ea typeface="맑은 고딕"/>
              </a:rPr>
              <a:t>현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Box 14"/>
          <p:cNvSpPr/>
          <p:nvPr/>
        </p:nvSpPr>
        <p:spPr>
          <a:xfrm>
            <a:off x="3760560" y="2448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8588a2"/>
                </a:solidFill>
                <a:latin typeface="Georgia"/>
                <a:ea typeface="맑은 고딕"/>
              </a:rPr>
              <a:t>대출채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TextBox 15"/>
          <p:cNvSpPr/>
          <p:nvPr/>
        </p:nvSpPr>
        <p:spPr>
          <a:xfrm>
            <a:off x="3760560" y="33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8588a2"/>
                </a:solidFill>
                <a:latin typeface="Georgia"/>
                <a:ea typeface="맑은 고딕"/>
              </a:rPr>
              <a:t>대금지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TextBox 16"/>
          <p:cNvSpPr/>
          <p:nvPr/>
        </p:nvSpPr>
        <p:spPr>
          <a:xfrm>
            <a:off x="6231240" y="25192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588a2"/>
                </a:solidFill>
                <a:latin typeface="Georgia"/>
                <a:ea typeface="맑은 고딕"/>
              </a:rPr>
              <a:t>MB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7749360" y="39481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588a2"/>
                </a:solidFill>
                <a:latin typeface="Georgia"/>
                <a:ea typeface="맑은 고딕"/>
              </a:rPr>
              <a:t>CDO/MB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01" name="Straight Arrow Connector 19"/>
          <p:cNvCxnSpPr/>
          <p:nvPr/>
        </p:nvCxnSpPr>
        <p:spPr>
          <a:xfrm>
            <a:off x="1520640" y="2855520"/>
            <a:ext cx="643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2" name="Straight Arrow Connector 21"/>
          <p:cNvCxnSpPr/>
          <p:nvPr/>
        </p:nvCxnSpPr>
        <p:spPr>
          <a:xfrm>
            <a:off x="3663720" y="2855520"/>
            <a:ext cx="857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Straight Arrow Connector 23"/>
          <p:cNvCxnSpPr/>
          <p:nvPr/>
        </p:nvCxnSpPr>
        <p:spPr>
          <a:xfrm>
            <a:off x="6235560" y="2855520"/>
            <a:ext cx="643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4" name="Straight Arrow Connector 25"/>
          <p:cNvCxnSpPr/>
          <p:nvPr/>
        </p:nvCxnSpPr>
        <p:spPr>
          <a:xfrm flipH="1" flipV="1">
            <a:off x="1520280" y="335736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Straight Arrow Connector 27"/>
          <p:cNvCxnSpPr/>
          <p:nvPr/>
        </p:nvCxnSpPr>
        <p:spPr>
          <a:xfrm flipH="1" flipV="1">
            <a:off x="3663360" y="3357360"/>
            <a:ext cx="857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29"/>
          <p:cNvCxnSpPr/>
          <p:nvPr/>
        </p:nvCxnSpPr>
        <p:spPr>
          <a:xfrm flipH="1" flipV="1">
            <a:off x="6235560" y="342720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31"/>
          <p:cNvCxnSpPr/>
          <p:nvPr/>
        </p:nvCxnSpPr>
        <p:spPr>
          <a:xfrm flipH="1">
            <a:off x="7450200" y="3714480"/>
            <a:ext cx="64332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34"/>
          <p:cNvCxnSpPr/>
          <p:nvPr/>
        </p:nvCxnSpPr>
        <p:spPr>
          <a:xfrm flipV="1">
            <a:off x="7000920" y="3714120"/>
            <a:ext cx="64332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Oval 36"/>
          <p:cNvSpPr/>
          <p:nvPr/>
        </p:nvSpPr>
        <p:spPr>
          <a:xfrm>
            <a:off x="1071720" y="2286000"/>
            <a:ext cx="1500120" cy="1643040"/>
          </a:xfrm>
          <a:prstGeom prst="ellipse">
            <a:avLst/>
          </a:prstGeom>
          <a:noFill/>
          <a:ln w="19080">
            <a:solidFill>
              <a:srgbClr val="5c92b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Oval 37"/>
          <p:cNvSpPr/>
          <p:nvPr/>
        </p:nvSpPr>
        <p:spPr>
          <a:xfrm>
            <a:off x="3357720" y="2143080"/>
            <a:ext cx="3857400" cy="1928880"/>
          </a:xfrm>
          <a:prstGeom prst="ellipse">
            <a:avLst/>
          </a:prstGeom>
          <a:noFill/>
          <a:ln w="19080">
            <a:solidFill>
              <a:srgbClr val="5c92b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Oval 38"/>
          <p:cNvSpPr/>
          <p:nvPr/>
        </p:nvSpPr>
        <p:spPr>
          <a:xfrm>
            <a:off x="6858000" y="3571920"/>
            <a:ext cx="2000160" cy="1071360"/>
          </a:xfrm>
          <a:prstGeom prst="ellipse">
            <a:avLst/>
          </a:prstGeom>
          <a:noFill/>
          <a:ln w="19080">
            <a:solidFill>
              <a:srgbClr val="5c92b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TextBox 39"/>
          <p:cNvSpPr/>
          <p:nvPr/>
        </p:nvSpPr>
        <p:spPr>
          <a:xfrm>
            <a:off x="142920" y="4746600"/>
            <a:ext cx="60008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2007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월 서브프라임 관련 문제는 주택경기 침체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대출 연체 문제로 인한 대출회사들의 부실화가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(2), (3) </a:t>
            </a: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최근 서브프라임 관련 사태는 서브프라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모기지 기반의 금융상품에 투자한 금융기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Georgia"/>
                <a:ea typeface="맑은 고딕"/>
              </a:rPr>
              <a:t>펀드들의 부실화 우려가 주요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TextBox 40"/>
          <p:cNvSpPr/>
          <p:nvPr/>
        </p:nvSpPr>
        <p:spPr>
          <a:xfrm>
            <a:off x="1001880" y="20718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TextBox 41"/>
          <p:cNvSpPr/>
          <p:nvPr/>
        </p:nvSpPr>
        <p:spPr>
          <a:xfrm>
            <a:off x="3478320" y="20718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TextBox 42"/>
          <p:cNvSpPr/>
          <p:nvPr/>
        </p:nvSpPr>
        <p:spPr>
          <a:xfrm>
            <a:off x="6478560" y="40593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월가 투자은행 몰락 배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8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 이후 미국의 금융제도가 </a:t>
            </a:r>
            <a:r>
              <a:rPr b="0" lang="ko-KR" sz="2800" spc="-1" strike="noStrike">
                <a:solidFill>
                  <a:srgbClr val="8b5d3d"/>
                </a:solidFill>
                <a:latin typeface="Georgia"/>
              </a:rPr>
              <a:t>은행위주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에서 </a:t>
            </a:r>
            <a:r>
              <a:rPr b="0" lang="ko-KR" sz="2800" spc="-1" strike="noStrike">
                <a:solidFill>
                  <a:srgbClr val="8b5d3d"/>
                </a:solidFill>
                <a:latin typeface="Georgia"/>
              </a:rPr>
              <a:t>시장위주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로 탈바꿈하는 과정에서 급속도로 성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모기지 증권화 → 시장 위주의 금융제도 발달 → 중개 담당 투자은행 급성장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상업은행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배 속도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오버 슈팅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월가 투자은행 몰락 배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초단기 자금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P,RP)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차입 →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짜리 주택 모기지 등에 장기투자 → 주택가격 하락 → 위기 → 단기자금 조달 창구 동결 → 장기투자한 모기지 가격 지속 하락 상황 직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9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대 초를 기점으로 투자은행의 모기지 투자금액이 상업은행 추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현재 전체 모기지의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/3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를 들고 있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투자은행 전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월가 투자은행들의 신화는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년 짜리 거품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b5d3d"/>
                </a:solidFill>
                <a:latin typeface="Georgia"/>
              </a:rPr>
              <a:t>‘</a:t>
            </a:r>
            <a:r>
              <a:rPr b="0" i="1" lang="ko-KR" sz="2800" spc="-1" strike="noStrike">
                <a:solidFill>
                  <a:srgbClr val="8b5d3d"/>
                </a:solidFill>
                <a:latin typeface="Georgia"/>
              </a:rPr>
              <a:t>일시적인 거품 현상을 지속적이고 장기적인 균형이라 착각한 것</a:t>
            </a:r>
            <a:r>
              <a:rPr b="0" i="1" lang="en-US" sz="2800" spc="-1" strike="noStrike">
                <a:solidFill>
                  <a:srgbClr val="8b5d3d"/>
                </a:solidFill>
                <a:latin typeface="Georgi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파생상품시장 축소 불가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호황일 때 은행들은 대출 확대하려는 경향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대출 확대위해 대출 기준 낮추어 서브프라임 모기지 등을 개발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`AAA`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등급 밖에 보유하지 못하는 보험사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펀드 등이 이를 보유할 수 있도록 하기 위해 위험관리기법을 적용 →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ko-KR" sz="2000" spc="-1" strike="noStrike">
                <a:solidFill>
                  <a:srgbClr val="438086"/>
                </a:solidFill>
                <a:latin typeface="Georgia"/>
              </a:rPr>
              <a:t>자산담보부증권 등 파생상품을 개발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위험관리기법 개선되며 오히려 더 큰 위험을 떠안게 됨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엄밀히 말해 이번 금융위기는 첨단 위기관리기법에 대한 과신에서 비롯됐다고 볼 수 있음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성능 좋은 브레이크를 믿고 과속으로 달리다가 사고 발생한 격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`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채권 부실에 대한 보험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`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이라는 착상에서 생겨난 크레디트디폴트스왑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CDS) 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등은 이미 보험을 들어야 하는 수준의 몇 십배를 뛰어넘는 규모로 성장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Georgia"/>
              </a:rPr>
              <a:t>이는 보험이 아니라 투기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24456"/>
                </a:solidFill>
                <a:latin typeface="Trebuchet MS"/>
              </a:rPr>
              <a:t>헤지펀드 추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유가와 원자재 시장의 거품도 헤지펀드가 부추겼다는 것이 이미 규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지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월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~9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월 헤지펀드 수익률 사상 최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투자자들이 자금난에 시달리며 수익률을 떠나서 무차별하게 환매 중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연말까지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`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헤지펀드 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`</a:t>
            </a:r>
            <a:r>
              <a:rPr b="0" lang="ko-KR" sz="2800" spc="-1" strike="noStrike">
                <a:solidFill>
                  <a:srgbClr val="000000"/>
                </a:solidFill>
                <a:latin typeface="Georgia"/>
              </a:rPr>
              <a:t>이 진행될 것으로 예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1:44:35Z</dcterms:created>
  <dc:creator>박준상</dc:creator>
  <dc:description/>
  <dc:language>en-US</dc:language>
  <cp:lastModifiedBy>Changho Han</cp:lastModifiedBy>
  <dcterms:modified xsi:type="dcterms:W3CDTF">2008-11-27T09:16:29Z</dcterms:modified>
  <cp:revision>68</cp:revision>
  <dc:subject/>
  <dc:title>서브프라임 파급에 따른  2009년 외환국제 원자재시장 전망</dc:title>
</cp:coreProperties>
</file>